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4029-0862-42AF-8F59-74909260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AFEE-C9BF-452C-B999-E6571031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2A7F-270D-413C-9404-DA2AD743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B4DD-9A07-4B9D-B892-975062F2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5245-71B7-493A-9316-F7A3EC15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A40A-8676-4A8A-B3C1-32B3847F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EDB7-172D-4FDE-BA71-9EF99EBC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91ED-A067-44FE-9206-64D8E3BD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56A7-B2F6-45B5-B431-B2B8CC6D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E6C0-672D-4592-A82E-32471703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DB78-05CA-40BA-A3E3-4BF14677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2225-23CE-4EE4-8B7E-E5295AAA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EC10-31F7-4C09-A201-8945AF1F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291D-8E84-4D0E-A0DE-C15E34AD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670C-97B5-42F9-A45B-E2F77132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F21B-F241-4FFA-B2F8-317208D8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8DBA-1CE2-4680-9083-1BD7034C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91A0-3FFF-4AD3-8E3C-9F72F70C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9F20-0F78-409F-865D-15E3E40F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47B2-2C3A-47D6-91A7-7D79B26C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75F2-2F77-4F7E-9ED9-9ED666B5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99FD-52E7-47A0-A45A-55E09243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11E0-2FB9-431F-BF74-77B9D490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0360-FDC7-45CC-87FE-694F4EC1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D402-4EBA-4CE9-90DC-A43BD73A1A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52D6-2019-490A-8E85-A3F08806DDEF}" type="slidenum">
              <a:rPr b="0" lang="sr-Latn-C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642960" y="282888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авилна исхрана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вод у школску хигијену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вод у менталну хигије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357200" y="4714920"/>
            <a:ext cx="607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а са епидемиологиј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а недеља наста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0" y="0"/>
            <a:ext cx="914400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ЈАЈ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Јаје је намирница која има велику биолошку вредност и то пре свега због високо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валитетних беланчевина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(12-13%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садрж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ве есенцијалне аминокиселине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 одговарајућем односу, а могућност искоришћења је потпун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 (100%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ајвише холестерола има у жуманцету (30%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Жуманце је богато F, Ca i F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а има 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итамина: А и 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0" y="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 крављем млеку има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8% вод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5% протеина (80% казеина), лак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лбумина, лактглобулина, имуноглобулина и албумина крвног серум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5-6% маст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инералних материја (Ca, F, K, Na, Mg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итамина (A, D, E, B grupe, 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0" y="0"/>
            <a:ext cx="9144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3. МАСТИ И УЉ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схрани људи масти се користе као издвојена хра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(видљиве мас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нзистенциј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ликујемо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обијају с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животињских производ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е (уља-добијају се из биља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рекл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ликујемо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животињског порекл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њска мас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биљног порекл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е из семенк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ље из маслин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гар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ргарин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извод добијен из биљних уља посебном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јом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aјчешћe му с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т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aдрж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80%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% воде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не кисели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8584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59112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ИСХРАН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један од најзначајнијих чинилаца неопходних за очување и унапређење здравља појединца и целе нациј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м </a:t>
            </a: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исхрана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разумева више аспекат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-591120" algn="just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етних намирниц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-591120" algn="just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 исправн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-591120" algn="just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алансиран унос нутриенс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 algn="just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морају бити квалитетне, одговарајућих особина (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, мирис, укус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иселост) и здравствено безбедне-не треба да буду загађене штетним агенсима који могу да оштете здравље људи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изички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емијским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шким металима, пестицид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,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има, антибиотицима и др.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иолошким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актеријама, вирусима, паразитима, гљивицама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9112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лепт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преглед намирн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 се изглед намирнице и утвр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е одступања од особина нормалног изгле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 спољне повр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есека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ина, еластицитет, боја, мирис, укус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е примесе(нпр.инсекти, плесни, песак, земља, делови амбал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и др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 паковања намирнице (амбала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паковање одговарају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о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о или постоје промене обл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 етикет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кларације)-рок употребе, састав намирнице, произво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преглед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91440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е бактериол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 исправности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, број и врста бактериј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основу важећег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илник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сваку врсту 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иљ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ити број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 небезбедне хра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ј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налаз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аји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 узорци се узимају 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ан н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, у стерилне судове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рилним прибор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у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ју да микробиол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налаз не одговара захтевима датим Правилником, т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а 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атра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 небезбед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о-физ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преглед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42680"/>
            <a:ext cx="88200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ог састава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циљу утвр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а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е безбед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ом се доказуј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а ли намирница одговар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вом саставу декларациј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је одр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 за ту намирницу и назн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 на омоту намирниц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а ли намирница одговар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аставу Правилницима о састав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не садр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дре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а хемијска једињењ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итиве, пестициде, хормоне, антибиотике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е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 метал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ад коли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 дозвољених Правилници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за анализу се узоркују из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извод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м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в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ан аспект правилне исхране, је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 избалансиран унос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х хранљивих супстанци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еланчевина, масти, угљених хидрата, витамина и минерала, као и оптималан енергетски унос, потребних за задовољење физичких и интелектуалних посл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исхрана и здравље људ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исхрана - уравнотежена исхра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а – комбинација различитих хемијски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нутријенти (протеини, угљени хидрати,маст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нутријенти (витамини, минерал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е за хра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зра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изиолошко ст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физичка актив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храње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вике (стил живо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здравствено ст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специфич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9483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КЕ ЗА ЕНЕРГЕТСКИ УНО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000080"/>
            <a:ext cx="856764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е потребе сваког појединца зависе 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потребне за одвијање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лног метабол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потребне з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у актив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з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о динамско дејство 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з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нових ткив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еца, труднице, дојиљ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0" y="0"/>
            <a:ext cx="914400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МИРНИЦ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у све оно што се користи као храна и пиће, у пре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ђеном или непрерађеном облику, као и зачини, боје и друге материје које се додају намирницама ради конзервисања, побољшања изгледа, укуса или мириса, обогаћивања и др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амида исхра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с је у Свету  прихваћен став да исхрану треба планирати у складу са препорукама у ,,Пирамиди исхране,,. Пирамида исхране представља графички приказ свих намирница које треба конзумирати у току да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ој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а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ељ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ок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ариц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ариц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дит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-45%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ћ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-25%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ћ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5%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к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чн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ј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уминоз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зграст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ћ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к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љив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оћ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ћер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ткиш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%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stara piramida text out"/>
          <p:cNvPicPr/>
          <p:nvPr/>
        </p:nvPicPr>
        <p:blipFill>
          <a:blip r:embed="rId1"/>
          <a:stretch/>
        </p:blipFill>
        <p:spPr>
          <a:xfrm>
            <a:off x="1692360" y="0"/>
            <a:ext cx="5607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9"/>
          <p:cNvSpPr/>
          <p:nvPr/>
        </p:nvSpPr>
        <p:spPr>
          <a:xfrm>
            <a:off x="1763640" y="28875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0000"/>
                </a:solidFill>
                <a:latin typeface="Times New Roman"/>
              </a:rPr>
              <a:t>Школска хигије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ДЕФИНИЦ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хигије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научна дисциплина која се бави проучавањем психофизичких карактеристика школске деце и омладине и услова њиховог живота и рада у шко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7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796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796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42720"/>
            <a:ext cx="8686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АРАКТЕРИСТИКЕ РАСТА И РАЗВО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9280" y="1628640"/>
            <a:ext cx="8280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1. Психички разво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2. Физички развој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8000"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9280" y="642960"/>
            <a:ext cx="82803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ог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а и разво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метријск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и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цералн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иолошки 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и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280" y="642960"/>
            <a:ext cx="82803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метријск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и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турални 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(телесна висина-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(телесна маса-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т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грудног кош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6000"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9280" y="-360"/>
            <a:ext cx="82803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урални раст</a:t>
            </a:r>
            <a:r>
              <a:rPr b="0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елесна висина-ТВ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људског живота постоје само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ог раста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рођења до 2 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е живот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епубертету</a:t>
            </a:r>
            <a:r>
              <a:rPr b="1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јчице</a:t>
            </a:r>
            <a:r>
              <a:rPr b="0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чаци</a:t>
            </a:r>
            <a:r>
              <a:rPr b="0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ђу ових фаза је фаза интермедијарног спорог раста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се завршава између 21 и 25 године живо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је изражен ле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 раст </a:t>
            </a:r>
            <a:r>
              <a:rPr b="0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лесна маса-ТТ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 раст прати статурални рас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ећи у апсолутним вредностима је између 13 и 16 годин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је изражен зи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</a:t>
            </a:r>
            <a:r>
              <a:rPr b="1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грудног кош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дни кош до пубертета расте спорије од бисте,  у пубертету и касније расте прогресивно са растом бист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4000"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9280" y="188640"/>
            <a:ext cx="828036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церални разво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пирато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рдиоваскула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 развој респираторног система настаје тек по завршетку пуберте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убертета сва деца абдоминално диш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пуберте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ојчице дишу горњокосталним тип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чаци дишу доњокосталним тип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васкула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3 и 4 години живота величина срца се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стручи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није се раст срца успорава и у телу одраслог човека се налази “дечије срце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1000"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9280" y="571680"/>
            <a:ext cx="820908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 раст и разво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иод у коме су поодмакли процеси антропометријског и висцералног раста и развоја и када се стичу особине које омогућавају репродукцију.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манифестација овог раста је пуберте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ке карактеристике пубертет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физичке особ</a:t>
            </a: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о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ација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ас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лад између статуралног и пондералног рас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карличних костиј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9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0"/>
            <a:ext cx="9144000" cy="55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ела намирница по порекл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љног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Житарице и произво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Повр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Во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Гљи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вотињског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со, риба, ја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леко и произво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ти и уљ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раста и развоја</a:t>
            </a:r>
            <a:br>
              <a:rPr sz="4400"/>
            </a:b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 поремећа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а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а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е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г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зог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</a:t>
            </a:r>
            <a:r>
              <a:rPr b="1" lang="sr-Latn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ефиниција</a:t>
            </a:r>
            <a:r>
              <a:rPr b="0" lang="en-U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</a:t>
            </a:r>
            <a:r>
              <a:rPr b="0" lang="en-U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етиолог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219320"/>
            <a:ext cx="777240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вљ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орав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ет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ључу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с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ев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н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зна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е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а следећ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ед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брионал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он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иш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ђењ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кова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а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99172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ласификација</a:t>
            </a:r>
            <a:r>
              <a:rPr b="1" lang="sr-Latn-C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војних</a:t>
            </a:r>
            <a:r>
              <a:rPr b="1" lang="sr-Latn-C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ремећ</a:t>
            </a:r>
            <a:r>
              <a:rPr b="1" lang="sr-Latn-C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ja</a:t>
            </a:r>
            <a:r>
              <a:rPr b="0" lang="en-US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440" y="762120"/>
            <a:ext cx="80773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штећења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нзорних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х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лн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тљив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гнитивних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а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игенциј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жњ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цептивних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окомоторних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ју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ромитују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тањ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икацију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т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алн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из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н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рофиј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ов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торне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е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претног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т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ј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а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ракс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ронична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ољења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т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ж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моционалн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ж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емећаји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изације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активно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активно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ивно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биноване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метњ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9280" y="785520"/>
            <a:ext cx="82090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обољевања школске деце и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ладине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зна обољ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разна обољ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а обољ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2000">
    <p:push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9280" y="1628640"/>
            <a:ext cx="5761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Вирусне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bi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bel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cel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ot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pat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onukle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p i d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851280" y="1643040"/>
            <a:ext cx="52927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Бактеријске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pto i stafilokokne infek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us, paratif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tusis i d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4000">
    <p:push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9280" y="1628640"/>
            <a:ext cx="5761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olesti ra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nizam (prividni, stvarn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žinovski ra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šav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jaz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fo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olio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rmiteti donjih ekstremit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op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slu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572000" y="1214280"/>
            <a:ext cx="4140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oremećaji organa i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ngenitalna kardiopat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umatska kariopat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erijalna hipertenz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italni orga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mo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kularna ektop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buminur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mitentna (povolj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ronič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tostats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jab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erg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Не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5000">
    <p:push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Не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99680" y="1500120"/>
            <a:ext cx="5761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Poremećaji govora, čitanja i pisa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c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lek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ortograf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5076720" y="1989000"/>
            <a:ext cx="3851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Anomalije psihičkog razvo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intelek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karak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motivis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noičan karak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abilnost mentalna i/ili motorič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push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9640" y="1213920"/>
            <a:ext cx="81360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žne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b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matomiko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tigo contagio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šljiv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zitarne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mi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zo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0" y="0"/>
            <a:ext cx="9144000" cy="75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тарице и произво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тарице, жита ил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церeалије су зрели плодoви култив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них биљакa у које спадaј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шениц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ча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ир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к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Овас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Садр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80% угљених хидр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8-16% проте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-7% м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минералне материје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калцијум, фосфор, гвожђе, бакар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витамине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i="1" lang="sr-R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групе, Е и Д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Производи од житарица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су :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Брашно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Хлеб и пеци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42920" y="28584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Биљног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ризика из школске средине </a:t>
            </a:r>
            <a:r>
              <a:rPr b="1" lang="sr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утицајем</a:t>
            </a: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е деце и омладин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9640" y="1000080"/>
            <a:ext cx="81360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Школска згра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Учио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мештај и прибор за р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светљ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анитарни чв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Хигијена наста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0000"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9640" y="404640"/>
            <a:ext cx="813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згра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да се за најмање 20 до 30 годи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градњи школске зграде битно је обратити пажњу н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цију и положај обј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ш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цију згра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прост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љеност од главних саобраћајница најмање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m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прост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они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а за наставнике (зборниц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дероб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бинети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к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ја и др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а за физичко васпит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хиња са трпезариј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и чв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9000">
    <p:push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штај и прибор за ра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клуп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а је растојање између вертикале спуштене са предње стране ивице стола и предње ивице столице</a:t>
            </a:r>
            <a:r>
              <a:rPr b="1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би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а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ликом стајања)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а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ликом писања, читања)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лта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ликом слушања предавања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а је вертикално или косо растојање између предње страње ивице стола и столице</a:t>
            </a:r>
            <a:r>
              <a:rPr b="1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fr-L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 је да је</a:t>
            </a:r>
            <a:r>
              <a:rPr b="0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,5% </a:t>
            </a:r>
            <a:r>
              <a:rPr b="0" lang="fr-L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 ученика плус</a:t>
            </a:r>
            <a:r>
              <a:rPr b="0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-4</a:t>
            </a:r>
            <a:r>
              <a:rPr b="0" lang="fr-L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среће диференца која је 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% ТВ дечака и17% ТВ девојчиц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9000">
    <p:push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табл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тка, равна, без пукотина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е или зелене боје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ксирана или покретн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осветљењ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штачк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и за организацију наставе и учењ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ак наставе у првом разреду од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и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асније од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ће задатке не треба давати деци испод 10 годин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оре давати после сваког часа од 10 мин, осим после 3 часа 30 мин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мете распоредити на почетку наставе средње тешки предмети, тешки,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ају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и предмет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НА ХИГИЈЕН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Концепт менталног здравља и менталне боле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ска здравствена организација дефинише ментално здрављ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стање социјалног и емотивног благостањ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ме особа остварује све своје способност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да подносе све животне стресов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вно и плодно ради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риноси својој заједниц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sr-CS" sz="15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R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001</a:t>
            </a:r>
            <a:r>
              <a:rPr b="0" lang="sr-RS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1500" spc="-1" strike="noStrike">
                <a:solidFill>
                  <a:srgbClr val="000000"/>
                </a:solidFill>
                <a:latin typeface="Calibri"/>
              </a:rPr>
              <a:t>Strengthening mental health promotio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1500" spc="-1" strike="noStrike">
                <a:solidFill>
                  <a:srgbClr val="000000"/>
                </a:solidFill>
                <a:latin typeface="Calibri"/>
              </a:rPr>
              <a:t>Geneva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W</a:t>
            </a:r>
            <a:r>
              <a:rPr b="0" lang="sr-CS" sz="1500" spc="-1" strike="noStrike">
                <a:solidFill>
                  <a:srgbClr val="000000"/>
                </a:solidFill>
                <a:latin typeface="Calibri"/>
              </a:rPr>
              <a:t>orld Health Organiz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на хигијена-дефини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на хигијена је превентивна медицинска грана која представља скуп мера и специјализованих техника за спречавање менталних болести и унапређење менталног зрављ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611280" y="403200"/>
            <a:ext cx="7993080" cy="57214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611280" y="6093000"/>
            <a:ext cx="8064360" cy="57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моралност-способност појединца да сам себи изрекне правила којих се придржава (морално расуђивање и морално понашањ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- збир свих карактеристика једне особе које одређују њену јединственост и особеност, по чему се она разликује од свих други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 укључује интелигенцију, темперамент, моралне и вољне елементе као трајне карактеристике јединк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 се развија и функционише у непрестаном процесу интеракција са средином које са своје стране утичу на њен даљи развој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мент- брзина, снага и трајање реаговања као и енергија која се при том ангажује и испоља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- описује оне аспекте личности који су одређени етичким и мор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ним критеријумима, а испољавају се у социјалним интеракцијама („добар/лош чврст/слаб “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и лич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28600" y="1125360"/>
            <a:ext cx="8686800" cy="53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овертне личност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 преосетљиве, повучене у себе, склоне претераној анализи себе и других, у ретком контакту са људ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овертне личности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отворене, спретне у контактима, заинтересоване за друштвене акције, оптимистичне, неосетљиве на крити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она личност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 њене психофизичке функције реагују као цел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интеграциона личност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њене психофизичке функције реагују одвоје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0" y="0"/>
            <a:ext cx="9144000" cy="74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ПОВР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Поврће обухвата плодове и делове повртарских биљака које се уобичајено користе у исхрани људи. То су најчешће: лишће, главице, луковице, кртоле,  махуне или стабло у свежем или прерађеном обли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Подела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према особинама и хранљивој вредности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 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толасто, коренасто и луковичасто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омпир, шаргарепа, першун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вичасто и лиснато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упус, кељ, карфиол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хунасто и поврће са плодом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асуљ, грашак, бораниј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Поврће садрж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највише воде, а најмање масти, па му је енергетска вредност мал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Богато је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минералним материјама (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K, Mg, F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витаминима (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Бe група, C, A, E, K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ална –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 чијим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тивностима управља тради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ал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ом управља њена свест, која одређује њено понашање које је током детињства и касније уграђено у облику одређених вриједности и нор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амостална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 се у складу са представом других о њо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ентична личност 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личност која развија своју индивидуалност и свој сопствени стил, њено понашање је стабилно, великих је интелектуалних способности, окренута ка будућ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утентична личност 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личност сасвим супротних особина од аутентичне 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ти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 страх од промена, слепо се веже за друге, несигурна 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к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6118200" y="1744560"/>
            <a:ext cx="13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Diagram 28"/>
          <p:cNvGrpSpPr/>
          <p:nvPr/>
        </p:nvGrpSpPr>
        <p:grpSpPr>
          <a:xfrm>
            <a:off x="1436400" y="1757160"/>
            <a:ext cx="6274080" cy="3341880"/>
            <a:chOff x="1436400" y="1757160"/>
            <a:chExt cx="6274080" cy="3341880"/>
          </a:xfrm>
        </p:grpSpPr>
        <p:sp>
          <p:nvSpPr>
            <p:cNvPr id="175" name="_s1028"/>
            <p:cNvSpPr/>
            <p:nvPr/>
          </p:nvSpPr>
          <p:spPr>
            <a:xfrm>
              <a:off x="3725640" y="2350800"/>
              <a:ext cx="1697040" cy="1697040"/>
            </a:xfrm>
            <a:prstGeom prst="ellipse">
              <a:avLst/>
            </a:prstGeom>
            <a:solidFill>
              <a:srgbClr val="c0504d">
                <a:alpha val="50000"/>
              </a:srgbClr>
            </a:solidFill>
            <a:ln w="4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_s1029"/>
            <p:cNvSpPr/>
            <p:nvPr/>
          </p:nvSpPr>
          <p:spPr>
            <a:xfrm>
              <a:off x="3725640" y="175716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200" spc="-1" strike="noStrike">
                  <a:solidFill>
                    <a:srgbClr val="9966ff"/>
                  </a:solidFill>
                  <a:latin typeface="Times New Roman"/>
                  <a:ea typeface="Arial"/>
                </a:rPr>
                <a:t>наслеђ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_s1030"/>
            <p:cNvSpPr/>
            <p:nvPr/>
          </p:nvSpPr>
          <p:spPr>
            <a:xfrm>
              <a:off x="4284360" y="3319200"/>
              <a:ext cx="1697040" cy="169704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_s1031"/>
            <p:cNvSpPr/>
            <p:nvPr/>
          </p:nvSpPr>
          <p:spPr>
            <a:xfrm>
              <a:off x="6013440" y="467496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200" spc="-1" strike="noStrike">
                  <a:solidFill>
                    <a:srgbClr val="ff9900"/>
                  </a:solidFill>
                  <a:latin typeface="Times New Roman"/>
                  <a:ea typeface="Arial"/>
                </a:rPr>
                <a:t>средин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_s1032"/>
            <p:cNvSpPr/>
            <p:nvPr/>
          </p:nvSpPr>
          <p:spPr>
            <a:xfrm>
              <a:off x="3166920" y="3319200"/>
              <a:ext cx="1697040" cy="1697040"/>
            </a:xfrm>
            <a:prstGeom prst="ellipse">
              <a:avLst/>
            </a:prstGeom>
            <a:solidFill>
              <a:srgbClr val="800080">
                <a:alpha val="50000"/>
              </a:srgbClr>
            </a:solidFill>
            <a:ln w="4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_s1033"/>
            <p:cNvSpPr/>
            <p:nvPr/>
          </p:nvSpPr>
          <p:spPr>
            <a:xfrm>
              <a:off x="1436400" y="467496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психичка и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физичка траум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 зависно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холиоза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имање алкохола у том степену да уживаоцима реме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ан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 и психички мир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астанак утич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леђ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сихичка конституциј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јална околи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овна производња алкохолних пић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ак живо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е материјално стањ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а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холиз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и</a:t>
            </a:r>
            <a:r>
              <a:rPr b="0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ова</a:t>
            </a:r>
            <a:r>
              <a:rPr b="0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љењ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</a:t>
            </a:r>
            <a:r>
              <a:rPr b="0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питни</a:t>
            </a:r>
            <a:r>
              <a:rPr b="0" lang="sr-Latn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а превенциј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ивање алкохолизм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едикаментозна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сихо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цио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дна терапиј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цијарна превенц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оцијализ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ркоман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психоактивних супстан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ресор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Алкохол,седативи,испарљиви раствара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анс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икотин,кокаин,амфетамини,екстаз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јат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рфин,херо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уциноген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SD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хуа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ало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ше центар nervus-a vagus-a и еметички цент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алим дозама има стимулативно дејство, док у већим дозама прво изазива стимулацију, а после доводи до депресије нервног систем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 сличан ацетилхолину, поспешује лучење допамина-изазива осећај задовољств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 никотина по системи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Н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емор, грчев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имулише дисање и респираторну секрециј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радикардија, касније тахикардија, аритмије, пораст ТА, вазоконстрикција коронарних крвних судова, оштећује зидове артерија, повећава наслаге холесторола, срчани мишић мора јаче да рад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учнина, повраћање, касније смањена моторна активност желуца и црев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жење зеница, касније проширењ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и ефекти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ећава гликемију, смањује диурез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хемијск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а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ћ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“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лош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цк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билн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з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ов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7859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фармак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380520"/>
            <a:ext cx="7848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е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ћне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е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зокомијалн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чен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ав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м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јем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ас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ал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кубац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утк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јем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 болничких инфекц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икац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бидите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талите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оше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јев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организам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болничк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лациј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ОЋ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оће чине посебне биљне врсте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адржи мешавину глукозе, фруктозе и сахароз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у различитим односима у зависности од врсте воћа.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Богато је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минералним материјама (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K, Mg, F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витаминима (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C, A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ГЉИВ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Биолошки су врло вредне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Користе се због специфичног укуса и мирис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Садржај протеина до 2%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503280" y="457200"/>
            <a:ext cx="784872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оболети болесниц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а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а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же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же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шће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)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иоц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к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нак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компромитова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руршк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енц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те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а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ав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тел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ијер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ав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иотс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&gt; 10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182600" y="30492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кл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ге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организм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р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с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зоге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организм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ич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ш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ци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иоц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мис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рект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контаминирани предмети - опрема и инструмен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ц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br>
              <a:rPr sz="2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143000" y="8377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с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љив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це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з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е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е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ци болничких 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 позитивн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hylococcus aure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агулаза негативне стафилоко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coccus s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 негативн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herichia co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 опортунистичке ентеробактерије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ebsiella spp., Serratia spp.,...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monas aeruginos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 неферментативне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netobacter spp.,...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0520" y="228600"/>
            <a:ext cx="8574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с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ц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х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 influenz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ni sincicijalni vi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 parainfluenz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cella-Zoster virus (VZ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зија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SV1, HSV2, VZ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к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лн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tavirusi i noroviru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rwalk-like viru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 путем крви, крвних продуката или контаминираним инструмент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 humane imunodeficijencije (HI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atitis B virus (HB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atitis C virus (HC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182600" y="228240"/>
            <a:ext cx="7772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љивиц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чниц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хоспитал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сн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dida spp. (C. albicans, C. tropicalis, C. glabrata, C. parapsilosis, C. krusei, C. lusitanae,...), Malassezia furfur, M. pachydermatis,Trichosporon beigel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с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rgillus spp., Penicillium spp., Acremonium s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or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izopus spp., Mucor spp., Absidia s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219320" y="151920"/>
            <a:ext cx="7772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</a:t>
            </a:r>
            <a:r>
              <a:rPr b="1" lang="sr-Latn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ћ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к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авиц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ше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а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кратн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ат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инфек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лаг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миниран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а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а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о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ктивн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а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ациј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компромитован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ат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кличав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изациј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а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м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к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авирус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В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луенц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иотск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с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н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ат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жен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к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676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НАМИРНИЦЕ ЖИВОТИЊСКОГ ПОРЕК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0" y="0"/>
            <a:ext cx="9144000" cy="82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МЕСО И МЕСН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ПРАЂЕВИН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Месо и месн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пре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ађевине су 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ирови 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ли пре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ађени делови ж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вотиња који се користе у исхрани људ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Може бити 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Домаћих животи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(говеђе, свињско, кокошије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Дивљих животи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(срнеће, дивље свиње, фазанско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Просечно месо садрж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50-70% воде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15-20% беланчевина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2-50% ма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ерал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атериј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K, F, Mg, Fe, Co, Cu, Zn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там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 (B grupe, A 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ВОД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ибе су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огате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сенцијалним аминокиселинама 16-23%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лавни извор Ј, мањеCa, Na, Z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оде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иба може б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ела риб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лић, пастрм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изак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адржај маст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до 4%), а висок воде (74-80%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сна риб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куш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аран, лосос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сок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адржај маст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до 10%) а нижи воде (до 70%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кољке и раков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07:49:33Z</dcterms:created>
  <dc:creator>Windows User</dc:creator>
  <dc:description/>
  <dc:language>en-US</dc:language>
  <cp:lastModifiedBy>Maja</cp:lastModifiedBy>
  <dcterms:modified xsi:type="dcterms:W3CDTF">2020-09-28T11:36:07Z</dcterms:modified>
  <cp:revision>82</cp:revision>
  <dc:subject/>
  <dc:title>Slide 1</dc:title>
</cp:coreProperties>
</file>